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641-03B5-4F22-B022-E187502D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1B7-A5CC-4887-8921-A05A955C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767-91B9-402F-A158-1FFACBD0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B56-4BF8-4554-A520-CA49C681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D67A-8973-4524-92A5-B6A8D966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DE8F-D10F-41C9-8839-C586B6C4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8CC4-8947-44A8-8C27-3626DCB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3CEE-A13A-4D07-BFD9-BF4C1447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9FB2-B583-49B5-A0D7-72652005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F6C5-DFC8-478B-A1D6-36412A9B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A14D-FD41-4F4F-8763-47DDE74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EDD-2D23-43CD-9EA6-294572A1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4D4B-F318-4B85-8CB0-3BF4B304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1A5B-AE76-4E17-A05C-2B6FA2D4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F814-669D-453F-A657-DFC894F9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A929-149A-493F-A5E4-8DBF5DB2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15DA-55A1-41F6-B7CE-EE1054A6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959-825D-49AC-AAA9-4A8AAAFB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7AF-DF7A-4CB1-95B6-F5BC3DCA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305-21EC-49D0-B689-4705F655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72C-EC8F-498F-9D36-9627DEBA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391-E9F0-4A1C-A06A-4E173D1B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D0F-2F10-4CEC-9549-AAC82E71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1E3-E93C-4D5D-A044-2A15DA7B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E406-4CC6-4931-8889-D49611CD4C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BE83-4958-4344-9A6F-ABC66ACB84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endlin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other Measure of Growth Rat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rate and trend 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the growth rate compare to students in the normed sample at the Well Below Proficient, Proficient, and Mean leve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does the trend line indicate that the student is going to achieve proficienc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ademic—Proficiency stand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havior—75 percent or 100 per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s at Level III that approximate special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: How Do They Show Growth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e that you draw through a series of data points that represents the student’s actual rate of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flatter than the aimline, then adjust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steeper than the aimline then adjust goal or area of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slopes are the same make no ch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 Procedures:  Can be done in Excel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first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second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 the two inters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your decision, is it the same decis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 and Entitlement Crite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determine how long it will be before the student’s skills are likely to be profici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d for Behavior Entitl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for Academics as we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cademics, can add student’s current growth rate to the median of the last 3 data points to determine how many weeks it will take the student to meet proficiency standar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:  Short Term Intervention Need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 is in Grade 6 and is receiving intervention in reading flu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2/1/10, the median of the last 3 data points for the student is 1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tudent’s growth rate is 3 words per we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oficient level score for Spring is 16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11 weeks, the student is likely to have reached proficiency on this prob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62 - 130 = 3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2/3= 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 is in Grade 4 and is receiving intervention in reading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3/1/10, the median of the last 3 data points for the student is 1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’s growth rate is 2 words/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 will need 19  weeks to become profic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2 - 105 = 5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6/2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 2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ison to peers, e.g. normativ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student above or below the Well Below Proficient, Proficient, or Mean performance of p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 the student met behavior goa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9:00:06Z</dcterms:created>
  <dc:creator>user</dc:creator>
  <dc:description/>
  <dc:language>en-US</dc:language>
  <cp:lastModifiedBy>Nancy Kreykenbohm</cp:lastModifiedBy>
  <dcterms:modified xsi:type="dcterms:W3CDTF">2010-09-13T17:37:50Z</dcterms:modified>
  <cp:revision>2</cp:revision>
  <dc:subject/>
  <dc:title>Trendlines</dc:title>
</cp:coreProperties>
</file>